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35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0025-C14B-4FC4-92A9-3D114E972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69BE-8C0B-4309-98BA-2D3FF9256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2A66-F5E7-4EEF-BFBC-9D9DCAD4D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6C96-C7FA-4DE2-96EC-279841334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EA22-F3E9-40E1-8971-DAEAEC2AE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6125-831A-4A60-BFAF-17ACF86AF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532F-DF6F-45A3-BD6A-BA4FBA947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36C7-C2C7-4697-BD53-109282FDE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BE12-79EE-4A0E-90EC-9A2CF1446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C5A1-715A-4E51-B21B-E6C83033C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B9CC-EB62-496A-AB4A-00D80A94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2326-6B87-49DB-8420-9F81A24BE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B2D5D-2998-4100-8E7F-FE8D78F921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8156520" cy="22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LORA I FAUNA WIGIERSKIEGO PARKU NARODOWE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26920" y="3284640"/>
            <a:ext cx="7777440" cy="33843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U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826560" y="1413000"/>
            <a:ext cx="4681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 terenie Parku stwierdzono występowanie 297 gatunków kręgowców, w tym 32 gatunki ryb, 12 gatunków płazów, 5 gatunków gadów, 202 gatunki ptaków oraz 46 gatunków ssakó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156360" y="1628640"/>
            <a:ext cx="2590920" cy="38102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156360" y="5661000"/>
            <a:ext cx="25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óbr europejs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611280" y="3213000"/>
            <a:ext cx="3809880" cy="271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11280" y="6093000"/>
            <a:ext cx="37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acek brunat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77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3" dur="770" fill="hold"/>
                                        <p:tgtEl>
                                          <p:spTgt spid="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5" dur="77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7" dur="77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4000"/>
                            </p:stCondLst>
                            <p:childTnLst>
                              <p:par>
                                <p:cTn id="2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0"/>
                            </p:stCondLst>
                            <p:childTnLst>
                              <p:par>
                                <p:cTn id="22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6560" y="476280"/>
            <a:ext cx="74026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ZKRĘGOWC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187280" y="1765440"/>
            <a:ext cx="648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 terenie Wigierskiego Parku Narodowego stwierdzono do tej pory obecność 61 chronionych gatunków bezkręgowców. Zdecydowaną większość tych gatunków stanowią owady (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Insecta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) - ważki, chrząszcze, motyle i błonkoskrzydłe, pozostałe zaś to mięczaki i pijaw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39640" y="3429000"/>
            <a:ext cx="3810240" cy="2590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539640" y="6237360"/>
            <a:ext cx="367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zczeżuja wielk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4932360" y="3429000"/>
            <a:ext cx="3809880" cy="26798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5148360" y="6237360"/>
            <a:ext cx="36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Ślimak winnicz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77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2" dur="770" fill="hold"/>
                                        <p:tgtEl>
                                          <p:spTgt spid="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4" dur="77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6" dur="77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4000"/>
                            </p:stCondLst>
                            <p:childTnLst>
                              <p:par>
                                <p:cTn id="25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0"/>
                            </p:stCondLst>
                            <p:childTnLst>
                              <p:par>
                                <p:cTn id="26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24000" y="549360"/>
            <a:ext cx="3809880" cy="28702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332000" y="18900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Trzmiel tajgow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324000" y="4221000"/>
            <a:ext cx="3784320" cy="22608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4716360" y="3933720"/>
            <a:ext cx="3944880" cy="26164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11280" y="3716280"/>
            <a:ext cx="35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Szablak krwis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003640" y="3429000"/>
            <a:ext cx="34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iegacz ogrodow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4572000" y="907920"/>
            <a:ext cx="3672000" cy="22622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932360" y="404640"/>
            <a:ext cx="32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Mszarnik jut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ŁAZY I G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11280" y="1700280"/>
            <a:ext cx="3309840" cy="47973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00720" y="1600200"/>
            <a:ext cx="418608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W Polsce występuje 18 gatunków płazów, co stanowi 31% fauny płazów całej Europy (58 gatunków). Wszystkie płazy na terenie naszego kraju podlegają ochronie ścisłej.Na terenie Wigierskiego Parku Narodowego stwierdzono występowanie 12 gatunków płazów (ponad 66% herpetofauny Polski). Są to: traszka grzebieniasta </a:t>
            </a:r>
            <a:r>
              <a:rPr b="0" i="1" lang="pl-PL" sz="1600" spc="-1" strike="noStrike">
                <a:solidFill>
                  <a:srgbClr val="000000"/>
                </a:solidFill>
                <a:latin typeface="Arial"/>
              </a:rPr>
              <a:t>Triturus cristatus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, traszka zwyczajna </a:t>
            </a:r>
            <a:r>
              <a:rPr b="0" i="1" lang="pl-PL" sz="1600" spc="-1" strike="noStrike">
                <a:solidFill>
                  <a:srgbClr val="000000"/>
                </a:solidFill>
                <a:latin typeface="Arial"/>
              </a:rPr>
              <a:t>Triturus vulgaris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, kumak nizinny </a:t>
            </a:r>
            <a:r>
              <a:rPr b="0" i="1" lang="pl-PL" sz="1600" spc="-1" strike="noStrike">
                <a:solidFill>
                  <a:srgbClr val="000000"/>
                </a:solidFill>
                <a:latin typeface="Arial"/>
              </a:rPr>
              <a:t>Bombina bombina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 grzebiuszka ziemna </a:t>
            </a:r>
            <a:r>
              <a:rPr b="0" i="1" lang="pl-PL" sz="1600" spc="-1" strike="noStrike">
                <a:solidFill>
                  <a:srgbClr val="000000"/>
                </a:solidFill>
                <a:latin typeface="Arial"/>
              </a:rPr>
              <a:t>Pelobates fuscus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, ropucha zwyczajna </a:t>
            </a:r>
            <a:r>
              <a:rPr b="0" i="1" lang="pl-PL" sz="1600" spc="-1" strike="noStrike">
                <a:solidFill>
                  <a:srgbClr val="000000"/>
                </a:solidFill>
                <a:latin typeface="Arial"/>
              </a:rPr>
              <a:t>Bufo bufo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, ropucha zielona </a:t>
            </a:r>
            <a:r>
              <a:rPr b="0" i="1" lang="pl-PL" sz="1600" spc="-1" strike="noStrike">
                <a:solidFill>
                  <a:srgbClr val="000000"/>
                </a:solidFill>
                <a:latin typeface="Arial"/>
              </a:rPr>
              <a:t>Bufo viridis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, ropucha paskówka </a:t>
            </a:r>
            <a:r>
              <a:rPr b="0" i="1" lang="pl-PL" sz="1600" spc="-1" strike="noStrike">
                <a:solidFill>
                  <a:srgbClr val="000000"/>
                </a:solidFill>
                <a:latin typeface="Arial"/>
              </a:rPr>
              <a:t>Bufo calamita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, rzekotka drzewna </a:t>
            </a:r>
            <a:r>
              <a:rPr b="0" i="1" lang="pl-PL" sz="1600" spc="-1" strike="noStrike">
                <a:solidFill>
                  <a:srgbClr val="000000"/>
                </a:solidFill>
                <a:latin typeface="Arial"/>
              </a:rPr>
              <a:t>Hyla arborea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, żaba trawna </a:t>
            </a:r>
            <a:r>
              <a:rPr b="0" i="1" lang="pl-PL" sz="1600" spc="-1" strike="noStrike">
                <a:solidFill>
                  <a:srgbClr val="000000"/>
                </a:solidFill>
                <a:latin typeface="Arial"/>
              </a:rPr>
              <a:t>Rana temporaria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, żaba moczarowa </a:t>
            </a:r>
            <a:r>
              <a:rPr b="0" i="1" lang="pl-PL" sz="1600" spc="-1" strike="noStrike">
                <a:solidFill>
                  <a:srgbClr val="000000"/>
                </a:solidFill>
                <a:latin typeface="Arial"/>
              </a:rPr>
              <a:t>Rana arvalis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, żaba wodna </a:t>
            </a:r>
            <a:r>
              <a:rPr b="0" i="1" lang="pl-PL" sz="1600" spc="-1" strike="noStrike">
                <a:solidFill>
                  <a:srgbClr val="000000"/>
                </a:solidFill>
                <a:latin typeface="Arial"/>
              </a:rPr>
              <a:t>Rana ‹‹esculenta››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i żaba jeziorkowa </a:t>
            </a:r>
            <a:r>
              <a:rPr b="0" i="1" lang="pl-PL" sz="1600" spc="-1" strike="noStrike">
                <a:solidFill>
                  <a:srgbClr val="000000"/>
                </a:solidFill>
                <a:latin typeface="Arial"/>
              </a:rPr>
              <a:t>Rana lessonae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67280" y="6093000"/>
            <a:ext cx="27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aszczurka zwink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77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6" dur="770" fill="hold"/>
                                        <p:tgtEl>
                                          <p:spTgt spid="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8" dur="77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0" dur="77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755640" y="189000"/>
            <a:ext cx="3138480" cy="21859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5076720" y="189000"/>
            <a:ext cx="3230640" cy="21859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116000" y="2565360"/>
            <a:ext cx="237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Żaba jeziorkow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64000" y="2565360"/>
            <a:ext cx="259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Żmija zygzakow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2843280" y="3500280"/>
            <a:ext cx="3155760" cy="21877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987640" y="623736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Kumak nizin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62752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TAK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99640" y="1413000"/>
            <a:ext cx="403884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a terenie Wigierskiego Parku  Narodowego zaobserwowano dotychczas 205 gatunków ptaków, co stanowi około 49% krajowej fauny tych zwierząt. Spośród tych gatunków 186 objętych jest ochroną ścisłą, a 5 ochroną częściową. Jest to łącznie prawie 48% wszystkich chronionych gatunków ptaków wykazanych z terenu Pols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340000" y="4149720"/>
            <a:ext cx="3419280" cy="24732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971640" y="5589720"/>
            <a:ext cx="129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292720" y="5589720"/>
            <a:ext cx="331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219640" y="3425040"/>
            <a:ext cx="30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6516720" y="1268280"/>
            <a:ext cx="2141640" cy="25844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867280" y="6093000"/>
            <a:ext cx="223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Łabędź niem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4149720"/>
            <a:ext cx="16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Bieli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77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9" dur="770" fill="hold"/>
                                        <p:tgtEl>
                                          <p:spTgt spid="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1" dur="77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3" dur="77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2000"/>
                            </p:stCondLst>
                            <p:childTnLst>
                              <p:par>
                                <p:cTn id="3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4000"/>
                            </p:stCondLst>
                            <p:childTnLst>
                              <p:par>
                                <p:cTn id="40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0"/>
                            </p:stCondLst>
                            <p:childTnLst>
                              <p:par>
                                <p:cTn id="4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68360" y="260280"/>
            <a:ext cx="3533760" cy="27907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611280" y="3429000"/>
            <a:ext cx="3325680" cy="32148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067280" y="549360"/>
            <a:ext cx="19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Zimorod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067280" y="5445000"/>
            <a:ext cx="165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Żura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5796000" y="907920"/>
            <a:ext cx="2781360" cy="38102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588000" y="4869000"/>
            <a:ext cx="10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ud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SAK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68360" y="1630080"/>
            <a:ext cx="3960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Polsce stwierdzono występowanie 101 gatunków ssaków, z których 13 nie zostało potwierdzonych w ostatnim czasie. Można zatem przyjąć, że w granicach naszego kraju żyje obecnie 88 gatunków ssaków, w tym 5 skrajnie zagrożonych wymarciem. Na terenie Wigierskiego Parku Narodowego zanotowano dotąd 49 gatunków ssaków, co stanowi ponad 55% fauny krajowej tych zwierząt. Przypuszcza się, że liczba ta wzrośnie po dokładniejszych badaniach fauny nietoperzy i innych drobnych ssak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932360" y="1413000"/>
            <a:ext cx="3816360" cy="45370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77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9" dur="770" fill="hold"/>
                                        <p:tgtEl>
                                          <p:spTgt spid="1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1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3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4000"/>
                            </p:stCondLst>
                            <p:childTnLst>
                              <p:par>
                                <p:cTn id="47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3809880" cy="27302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250920" y="3573360"/>
            <a:ext cx="4005000" cy="27226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5076720" y="2492280"/>
            <a:ext cx="3656160" cy="2583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826920" y="6381720"/>
            <a:ext cx="324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i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9640" y="2997360"/>
            <a:ext cx="338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y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48360" y="5445000"/>
            <a:ext cx="35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Rzęsiorek Rzecz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0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śród ssaków występujących w Wigierskim Parku Narodowym 8 gatunków umieszczonych zostało na „Czerwonej liście zwierząt ginących i zagrożonych w Polsce”, a 7 w „Polskiej czerwonej księdze zwierząt”. Jeszcze do niedawna do „Czerwonej księgi” wpisany był bóbr europejski , jako gatunek wyprowadzony z zagrożenia. Gatunek ten był w wysokim stopniu narażony na wyginięcie, a obecnie – dzięki zabiegom ochronnym, odbudował swoją populację do poziomu względnego bezpieczeństw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762440" y="1700280"/>
            <a:ext cx="3810240" cy="41050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0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1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łożeni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716360" y="1916280"/>
            <a:ext cx="4189680" cy="31813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324000" y="1341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Arial Black"/>
              </a:rPr>
              <a:t>Wigierski Park Narodowy położony jest na północnym skraju Puszczy Augustowskiej, największego zwartego kompleksu leśnego na niżu Europy, który wraz z lasami na terytorium Litwy i Białorusi pokrywa obszar około 300 tysięcy hektarów. Geograficznie, Park leży w granicach Pojezierza Litewskiego i obejmuje fragmenty trzech mezoregionów: Pojezierza Zachodniosuwalskiego, Pojezierza Wschodniosuwalskiego i Równiny Augustowskiej. Prawie cały obszar Wigierskiego Parku Narodowego leży w środkowej części dorzecza rzeki Czarnej Hańczy, dopływu Niemna. Park, wraz z otuliną, rozciąga się pomiędzy 53o57' a 54o10' szerokości geograficznej północnej i 22o57' a 23o15' długości geograficznej wschodniej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2636640"/>
            <a:ext cx="842472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Opracowała 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Anna Kozmowsk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0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indefinite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33" dur="indefinite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34" dur="indefinite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55640" y="836640"/>
            <a:ext cx="3816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owtórzen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2842920" y="4941720"/>
            <a:ext cx="3313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KONIE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>
            <a:hlinkClick r:id="" action="ppaction://hlinkshowjump?jump=firstslide"/>
          </p:cNvPr>
          <p:cNvSpPr/>
          <p:nvPr/>
        </p:nvSpPr>
        <p:spPr>
          <a:xfrm>
            <a:off x="6516720" y="1268280"/>
            <a:ext cx="1368360" cy="576360"/>
          </a:xfrm>
          <a:custGeom>
            <a:avLst/>
            <a:gdLst>
              <a:gd name="textAreaLeft" fmla="*/ 37080 w 1368360"/>
              <a:gd name="textAreaRight" fmla="*/ 1331280 w 1368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51263" h="21600">
                <a:moveTo>
                  <a:pt x="0" y="0"/>
                </a:moveTo>
                <a:lnTo>
                  <a:pt x="51263" y="0"/>
                </a:lnTo>
                <a:lnTo>
                  <a:pt x="51263" y="21600"/>
                </a:lnTo>
                <a:lnTo>
                  <a:pt x="0" y="21600"/>
                </a:lnTo>
                <a:close/>
              </a:path>
              <a:path fill="lightenLess" w="51263" h="21600">
                <a:moveTo>
                  <a:pt x="0" y="0"/>
                </a:moveTo>
                <a:lnTo>
                  <a:pt x="51263" y="0"/>
                </a:lnTo>
                <a:lnTo>
                  <a:pt x="49863" y="1400"/>
                </a:lnTo>
                <a:lnTo>
                  <a:pt x="1400" y="1400"/>
                </a:lnTo>
                <a:close/>
              </a:path>
              <a:path fill="darken" w="51263" h="21600">
                <a:moveTo>
                  <a:pt x="51263" y="0"/>
                </a:moveTo>
                <a:lnTo>
                  <a:pt x="51263" y="21600"/>
                </a:lnTo>
                <a:lnTo>
                  <a:pt x="49863" y="20200"/>
                </a:lnTo>
                <a:lnTo>
                  <a:pt x="49863" y="1400"/>
                </a:lnTo>
                <a:close/>
              </a:path>
              <a:path fill="darkenLess" w="51263" h="21600">
                <a:moveTo>
                  <a:pt x="512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863" y="20200"/>
                </a:lnTo>
                <a:close/>
              </a:path>
              <a:path fill="lighten" w="512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263" h="21600">
                <a:moveTo>
                  <a:pt x="18625" y="7493"/>
                </a:moveTo>
                <a:lnTo>
                  <a:pt x="22133" y="7493"/>
                </a:lnTo>
                <a:lnTo>
                  <a:pt x="22133" y="12828"/>
                </a:lnTo>
                <a:cubicBezTo>
                  <a:pt x="22133" y="13751"/>
                  <a:pt x="22933" y="14482"/>
                  <a:pt x="23969" y="14482"/>
                </a:cubicBezTo>
                <a:lnTo>
                  <a:pt x="25631" y="14482"/>
                </a:lnTo>
                <a:cubicBezTo>
                  <a:pt x="26667" y="14482"/>
                  <a:pt x="27468" y="13751"/>
                  <a:pt x="27468" y="12828"/>
                </a:cubicBezTo>
                <a:lnTo>
                  <a:pt x="27468" y="7493"/>
                </a:lnTo>
                <a:lnTo>
                  <a:pt x="25631" y="7493"/>
                </a:lnTo>
                <a:lnTo>
                  <a:pt x="29139" y="3985"/>
                </a:lnTo>
                <a:lnTo>
                  <a:pt x="32812" y="7493"/>
                </a:lnTo>
                <a:lnTo>
                  <a:pt x="30976" y="7493"/>
                </a:lnTo>
                <a:lnTo>
                  <a:pt x="30976" y="12828"/>
                </a:lnTo>
                <a:cubicBezTo>
                  <a:pt x="30976" y="15596"/>
                  <a:pt x="28399" y="18155"/>
                  <a:pt x="25631" y="18155"/>
                </a:cubicBezTo>
                <a:lnTo>
                  <a:pt x="23969" y="18155"/>
                </a:lnTo>
                <a:cubicBezTo>
                  <a:pt x="21201" y="18155"/>
                  <a:pt x="18625" y="15596"/>
                  <a:pt x="18625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>
            <a:hlinkClick r:id="" action="ppaction://hlinkshowjump?jump=endshow"/>
          </p:cNvPr>
          <p:cNvSpPr/>
          <p:nvPr/>
        </p:nvSpPr>
        <p:spPr>
          <a:xfrm>
            <a:off x="6588000" y="5013360"/>
            <a:ext cx="1295640" cy="576360"/>
          </a:xfrm>
          <a:custGeom>
            <a:avLst/>
            <a:gdLst>
              <a:gd name="textAreaLeft" fmla="*/ 37080 w 1295640"/>
              <a:gd name="textAreaRight" fmla="*/ 1258560 w 1295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48539" h="21600">
                <a:moveTo>
                  <a:pt x="0" y="0"/>
                </a:moveTo>
                <a:lnTo>
                  <a:pt x="48539" y="0"/>
                </a:lnTo>
                <a:lnTo>
                  <a:pt x="48539" y="21600"/>
                </a:lnTo>
                <a:lnTo>
                  <a:pt x="0" y="21600"/>
                </a:lnTo>
                <a:close/>
              </a:path>
              <a:path fill="lightenLess" w="48539" h="21600">
                <a:moveTo>
                  <a:pt x="0" y="0"/>
                </a:moveTo>
                <a:lnTo>
                  <a:pt x="48539" y="0"/>
                </a:lnTo>
                <a:lnTo>
                  <a:pt x="47139" y="1400"/>
                </a:lnTo>
                <a:lnTo>
                  <a:pt x="1400" y="1400"/>
                </a:lnTo>
                <a:close/>
              </a:path>
              <a:path fill="darken" w="48539" h="21600">
                <a:moveTo>
                  <a:pt x="48539" y="0"/>
                </a:moveTo>
                <a:lnTo>
                  <a:pt x="48539" y="21600"/>
                </a:lnTo>
                <a:lnTo>
                  <a:pt x="47139" y="20200"/>
                </a:lnTo>
                <a:lnTo>
                  <a:pt x="47139" y="1400"/>
                </a:lnTo>
                <a:close/>
              </a:path>
              <a:path fill="darkenLess" w="48539" h="21600">
                <a:moveTo>
                  <a:pt x="48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39" y="20200"/>
                </a:lnTo>
                <a:close/>
              </a:path>
              <a:path fill="lighten" w="48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39" h="21600">
                <a:moveTo>
                  <a:pt x="27769" y="10800"/>
                </a:moveTo>
                <a:lnTo>
                  <a:pt x="17263" y="17806"/>
                </a:lnTo>
                <a:lnTo>
                  <a:pt x="17263" y="3794"/>
                </a:lnTo>
                <a:close/>
              </a:path>
              <a:path fill="darken" w="48539" h="21600">
                <a:moveTo>
                  <a:pt x="29614" y="3794"/>
                </a:moveTo>
                <a:lnTo>
                  <a:pt x="29614" y="17806"/>
                </a:lnTo>
                <a:lnTo>
                  <a:pt x="31276" y="17806"/>
                </a:lnTo>
                <a:lnTo>
                  <a:pt x="3127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I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d względem klimatycznym Park znajduje się w Regionie Mazursko-Podlaskim, obejmującym swym zasięgiem wschodnią część Pojezierza Mazurskiego oraz część Podlasia. Cały region,, pozostaje pod znacznym wpływem rozciągającego się na wschód bloku kontynentalnego Eurazji. Z tego też względu obszar ten ma najsurowsze warunki klimatyczne w całej nizinnej części kraj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39640" y="3554280"/>
            <a:ext cx="8353440" cy="22068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77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" dur="770" fill="hold"/>
                                        <p:tgtEl>
                                          <p:spTgt spid="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OS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031840" y="1976400"/>
            <a:ext cx="5080320" cy="37720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031840" y="1957320"/>
            <a:ext cx="5080320" cy="38102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55640" y="2133720"/>
            <a:ext cx="7488360" cy="34891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ESIE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826920" y="2060640"/>
            <a:ext cx="7201080" cy="36529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I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2987640" y="1557000"/>
            <a:ext cx="29527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Flora roślin naczyniowych Wigierskiego Parku Narodowego nie została jeszcze do końca poznana. Flora Parku jest niezwykle interesująca, ponieważ występują tu gatunki reprezentujące różne elementy geograficzne</a:t>
            </a:r>
            <a:r>
              <a:rPr b="0" lang="pl-PL" sz="1400" spc="-1" strike="noStrike">
                <a:solidFill>
                  <a:srgbClr val="000000"/>
                </a:solidFill>
                <a:latin typeface="Arial Black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00720" y="1557360"/>
            <a:ext cx="2540160" cy="38098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50920" y="1484280"/>
            <a:ext cx="2527200" cy="38098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50920" y="5445000"/>
            <a:ext cx="25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osiczka długolist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00720" y="5589720"/>
            <a:ext cx="25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Kukułka Ruthe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77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9" dur="770" fill="hold"/>
                                        <p:tgtEl>
                                          <p:spTgt spid="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1" dur="77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3" dur="77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4000"/>
                            </p:stCondLst>
                            <p:childTnLst>
                              <p:par>
                                <p:cTn id="14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0"/>
                            </p:stCondLst>
                            <p:childTnLst>
                              <p:par>
                                <p:cTn id="15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68360" y="4005360"/>
            <a:ext cx="3624120" cy="26240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55640" y="3573360"/>
            <a:ext cx="31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Obuwik pospo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539640" y="620640"/>
            <a:ext cx="3810240" cy="27939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84360" y="260280"/>
            <a:ext cx="36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rzybienie północ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651640" y="549360"/>
            <a:ext cx="3097080" cy="60483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724360" y="18900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Lilia złotogłó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3T11:49:18Z</dcterms:created>
  <dc:creator>Administrator</dc:creator>
  <dc:description/>
  <dc:language>en-US</dc:language>
  <cp:lastModifiedBy>Administrator</cp:lastModifiedBy>
  <dcterms:modified xsi:type="dcterms:W3CDTF">2003-11-14T11:50:55Z</dcterms:modified>
  <cp:revision>21</cp:revision>
  <dc:subject/>
  <dc:title>CHRONIONE GATUNKI ZWIERZĄT</dc:title>
</cp:coreProperties>
</file>